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89A4-7104-46B7-A67E-83C3F394A3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take actio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F66E-0503-4EFE-9055-27736E9901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eacekeeping and secu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, sends peacekeepers to regions where armed conflict has recently ceased or paused to enforce the terms of peace agreements and to discourage combatants from resuming hostilit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nce the UN does not maintain its own military, peacekeeping forces are voluntarily provided by member states of the 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forces, are called the "Blue Helmets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CD1C-B138-4732-A9FE-36413996D3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national organi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 was founded in 1945 after World War II (to replace the League of Nations) - 65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stop wars between countri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d to provide a platform for dialog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early every sovereign state in the world is a me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national law, international security, economic development, social progress, human rights, and achievement of world pe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t contains multiple subsidiary organizations to carry out its mis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bout 44,000 people work for the 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F466-0138-42E4-B7CC-BBA23C520C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ecretary-General, Ban Ki-moon of South Kore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pokesperson and leader of the 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1B50-57C0-435B-B651-B84B83C59E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ited Nations Environment Programme (UNEP) coordinates United Nations environmental activiti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sisting developing countries in implementing environmentally sound policies and pract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unded in June 1972 (39 years ago) and has its headquarters in Nairobi, Keny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EP also has six regional offices and various country off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B8D9-E2BD-4C45-AD34-322DE15EB9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D1AD-3E22-4ED7-9759-2BBF2F5C44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1298-81F3-410C-95C8-2D215A53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115-E5EA-48C5-884C-545EDD8C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A51E-A84C-41E3-9419-B6424F56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2140-295C-48EC-B512-00882536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34F1-B05A-4AE0-96A6-72A15924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744C-8C43-4082-938E-56E2EA2F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C7E1-BBA6-4AA1-A12E-BCD261A5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2B5E-0327-40EF-9A4B-738D3843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56F9-5C46-4C9E-937D-80A39A62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9F7E-1530-4782-A554-8F98B747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02B6-EE1B-4AC5-BCB1-71473F2B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014-75E6-4D4C-A9E2-B7FA2D72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E4AB-95B4-4756-AF51-E840FFE3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E1B9-AF37-465F-BAA3-FE4C3D1F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2E8F-8472-4C44-A2B6-98230416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0AFC-991D-4536-AEC6-19D0C9E2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184D-2BF6-40A2-A0DA-91C950FB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71CF-2874-4C9A-96BB-0CFCB2F0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B6F1-99EC-418A-ACC3-80AB604B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FB6B-1794-4420-ADA4-9212F315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A5BD-5910-4BE6-B0C4-5D48FAFE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F8E-2A8A-45A2-8A3E-A5A4B403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8AB-54C8-43A2-AF93-3C27BFE6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6281-7694-4ACA-A9A0-6008B8B7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98F6-2C46-43ED-A2C4-3A0117D748A2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998B-115A-46CF-A7E8-A163190CDD18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www.businesspundit.com/wp-content/uploads/2009/10/zzmicheytds.jpg"/>
          <p:cNvPicPr/>
          <p:nvPr/>
        </p:nvPicPr>
        <p:blipFill>
          <a:blip r:embed="rId1"/>
          <a:stretch/>
        </p:blipFill>
        <p:spPr>
          <a:xfrm>
            <a:off x="2556000" y="1844640"/>
            <a:ext cx="4095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539640" y="836640"/>
            <a:ext cx="842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nstantia"/>
              </a:rPr>
              <a:t>Harmful Substances and Hazardous Wast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6" name="Picture 2" descr="http://www.pwindia.in/Libraries/People/toxic_waste.sflb.ashx"/>
          <p:cNvPicPr/>
          <p:nvPr/>
        </p:nvPicPr>
        <p:blipFill>
          <a:blip r:embed="rId1"/>
          <a:stretch/>
        </p:blipFill>
        <p:spPr>
          <a:xfrm>
            <a:off x="1619280" y="2133720"/>
            <a:ext cx="60958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1"/>
          <p:cNvSpPr/>
          <p:nvPr/>
        </p:nvSpPr>
        <p:spPr>
          <a:xfrm>
            <a:off x="36720" y="692280"/>
            <a:ext cx="4892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nstantia"/>
              </a:rPr>
              <a:t>Resource Efficiency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14" descr=""/>
          <p:cNvPicPr/>
          <p:nvPr/>
        </p:nvPicPr>
        <p:blipFill>
          <a:blip r:embed="rId1"/>
          <a:srcRect l="20276" t="24934" r="53346" b="44969"/>
          <a:stretch/>
        </p:blipFill>
        <p:spPr>
          <a:xfrm>
            <a:off x="1403280" y="1628640"/>
            <a:ext cx="57229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www.nasa.gov/images/content/139207main_ozone_hole_img.gif"/>
          <p:cNvPicPr/>
          <p:nvPr/>
        </p:nvPicPr>
        <p:blipFill>
          <a:blip r:embed="rId1"/>
          <a:stretch/>
        </p:blipFill>
        <p:spPr>
          <a:xfrm>
            <a:off x="2114640" y="971640"/>
            <a:ext cx="491472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http://earthtrends.wri.org/images/ODS%20Consumption%20Chart.jpg"/>
          <p:cNvPicPr/>
          <p:nvPr/>
        </p:nvPicPr>
        <p:blipFill>
          <a:blip r:embed="rId1"/>
          <a:stretch/>
        </p:blipFill>
        <p:spPr>
          <a:xfrm>
            <a:off x="755640" y="620640"/>
            <a:ext cx="76629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http://www.unep.fr/ozonaction/images/events/ozoneday/content_2005_ozzy.jpg"/>
          <p:cNvPicPr/>
          <p:nvPr/>
        </p:nvPicPr>
        <p:blipFill>
          <a:blip r:embed="rId1"/>
          <a:stretch/>
        </p:blipFill>
        <p:spPr>
          <a:xfrm>
            <a:off x="3132000" y="981000"/>
            <a:ext cx="3024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www.vietnam-un.org/images/peacekeeper.jpg"/>
          <p:cNvPicPr/>
          <p:nvPr/>
        </p:nvPicPr>
        <p:blipFill>
          <a:blip r:embed="rId1"/>
          <a:stretch/>
        </p:blipFill>
        <p:spPr>
          <a:xfrm>
            <a:off x="2857680" y="1641600"/>
            <a:ext cx="342900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ile:Flag of the United Nations.svg"/>
          <p:cNvPicPr/>
          <p:nvPr/>
        </p:nvPicPr>
        <p:blipFill>
          <a:blip r:embed="rId1"/>
          <a:stretch/>
        </p:blipFill>
        <p:spPr>
          <a:xfrm>
            <a:off x="755640" y="1268280"/>
            <a:ext cx="76201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upload.wikimedia.org/wikipedia/commons/thumb/1/1a/Ban_Ki-moon_headshot.jpg/250px-Ban_Ki-moon_headshot.jpg"/>
          <p:cNvPicPr/>
          <p:nvPr/>
        </p:nvPicPr>
        <p:blipFill>
          <a:blip r:embed="rId1"/>
          <a:stretch/>
        </p:blipFill>
        <p:spPr>
          <a:xfrm>
            <a:off x="3184560" y="1592280"/>
            <a:ext cx="27748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File:UNEP logo.svg"/>
          <p:cNvPicPr/>
          <p:nvPr/>
        </p:nvPicPr>
        <p:blipFill>
          <a:blip r:embed="rId1"/>
          <a:stretch/>
        </p:blipFill>
        <p:spPr>
          <a:xfrm>
            <a:off x="3052800" y="1643040"/>
            <a:ext cx="3038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611280" y="6206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nstantia"/>
              </a:rPr>
              <a:t>Climate Chang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2" descr="http://www.marketoracle.co.uk/images/climate_change_carbon_tax.jpg"/>
          <p:cNvPicPr/>
          <p:nvPr/>
        </p:nvPicPr>
        <p:blipFill>
          <a:blip r:embed="rId1"/>
          <a:stretch/>
        </p:blipFill>
        <p:spPr>
          <a:xfrm>
            <a:off x="2484360" y="1557360"/>
            <a:ext cx="408168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468360" y="765000"/>
            <a:ext cx="71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nstantia"/>
              </a:rPr>
              <a:t>Disasters and Conflicts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1"/>
          <a:srcRect l="19488" t="29834" r="51770" b="40066"/>
          <a:stretch/>
        </p:blipFill>
        <p:spPr>
          <a:xfrm>
            <a:off x="1506600" y="1773360"/>
            <a:ext cx="62341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395280" y="76500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nstantia"/>
              </a:rPr>
              <a:t>Ecosystem Management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2" name="Picture 2" descr="http://adoxas.com/custom/rev.jpg"/>
          <p:cNvPicPr/>
          <p:nvPr/>
        </p:nvPicPr>
        <p:blipFill>
          <a:blip r:embed="rId1"/>
          <a:stretch/>
        </p:blipFill>
        <p:spPr>
          <a:xfrm>
            <a:off x="2484360" y="1557360"/>
            <a:ext cx="491328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395280" y="90792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nstantia"/>
              </a:rPr>
              <a:t>Environmental Governanc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" name="Picture 2" descr="http://www.iisd.ca/ozone/mop11/pix/5plen-balcony.jpg"/>
          <p:cNvPicPr/>
          <p:nvPr/>
        </p:nvPicPr>
        <p:blipFill>
          <a:blip r:embed="rId1"/>
          <a:stretch/>
        </p:blipFill>
        <p:spPr>
          <a:xfrm>
            <a:off x="1763640" y="2349360"/>
            <a:ext cx="55450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0:15:41Z</dcterms:created>
  <dc:creator>E</dc:creator>
  <dc:description/>
  <dc:language>en-US</dc:language>
  <cp:lastModifiedBy>mhelene</cp:lastModifiedBy>
  <dcterms:modified xsi:type="dcterms:W3CDTF">2011-01-03T13:42:15Z</dcterms:modified>
  <cp:revision>20</cp:revision>
  <dc:subject/>
  <dc:title>Slide 1</dc:title>
</cp:coreProperties>
</file>